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rojctor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CD43-44FD-4950-B4B5-94393C133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E7BD-1528-4700-9067-D034EF8A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DE57-DD2C-4170-A4D8-2B0A7DD8A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2D63-4C04-4FFE-8D40-950950975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FA90-78A7-416B-BE6A-D2B5D579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37EF-BB28-446F-A47D-36913798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E08C-BB10-428E-93D3-E66496EA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ED23-AD16-4D92-A8B1-C06C67C6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4159-FB27-4C0F-8E1B-A840AA97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8F47-DF00-4575-81DE-FE819103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2F0B-76FC-4185-A643-9E94215F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285F-752A-4950-B128-931EADC2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08F8-70F8-4220-99D7-DB00E9B2BA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4.xml"/><Relationship Id="rId5" Type="http://schemas.openxmlformats.org/officeDocument/2006/relationships/slide" Target="slide14.xml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章   对话框与控件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229600" cy="42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内容摘要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1" action="ppaction://hlinksldjump"/>
              </a:rPr>
              <a:t>1.使用对话框与控件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2.模态对话框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3.非模态对话框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进度条对话框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属性页对话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使用通用对话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916400" y="60958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返回目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6" name="projcto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编辑对话框资源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3580920"/>
            <a:ext cx="86104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C_SEX1                      Radio Button            Caption: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男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rou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选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C_SEX2                      Radio Button            Caption: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C_INSTEREST1        Check Box               Caption: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登山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roup: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选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C_INSTEREST2        Check Box                Caption: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游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C_INSTEREST3        Check Box                Caption: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看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C_INSTEREST4        Check Box                Caption: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玩游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C_COMBO                Combo B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C_EDIT                      Edit B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1447920"/>
            <a:ext cx="462600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:  IDD_MODAL_DIA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ption: “Modal Dialo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ass: CDialogMod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添加控件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029200" y="380880"/>
          <a:ext cx="3429000" cy="30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80880"/>
                    <a:ext cx="342900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  <p:sndAc>
      <p:stSnd>
        <p:snd r:embed="rId3" name="projcto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添加控件关联变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990720"/>
            <a:ext cx="6378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C_COMBO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ComboBo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_Comb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C_SEX1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Butt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_Radi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C_EDIT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String           m_Edi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31240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显示对话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380988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菜单响应函数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4419720"/>
            <a:ext cx="6782040" cy="18190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DialogView::OnViewModaldialog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DialogModal m_D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Dlg.DoModal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228600"/>
            <a:ext cx="71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话框响应函数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762120"/>
            <a:ext cx="8153280" cy="51530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OOL CDialogModal::OnInitDialog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Dialog::OnInitDialog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extra initializatio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Radio.SetCheck(1);     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男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设置为默认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Combo.InsertString(0,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小学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); 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往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ombo Box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加入选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Combo.InsertString(1,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初中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Combo.InsertString(2,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高中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Combo.InsertString(3,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大学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Combo.InsertString(4,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本科以上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...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Combo.SetCurSel(0);    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小学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设置为默认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TRUE; // return TRUE unless you set the focus to a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EXCEPTION: OCX Property Pages should return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0"/>
            <a:ext cx="8686800" cy="188593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DialogModal::OnOk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your control notification handler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String s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.Empty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m_Radio.GetCheck(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 += 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先生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 += 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小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 += 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你好，你的爱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: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OOL flag=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Button *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得到指向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DC_INSTEREST1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的指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 = (CButton *)GetDlgItem(IDC_INSTEREST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p-&gt;GetCheck()) 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判断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登山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是否被选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 += 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登山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lag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得到指向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DC_INSTEREST2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的指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 = (CButton *)GetDlgItem(IDC_INSTEREST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p-&gt;GetCheck())      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判断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游泳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是否被选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 += 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游泳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lag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得到指向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DC_INSTEREST3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的指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 = (CButton *)GetDlgItem(IDC_INSTEREST3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p-&gt;GetCheck()) 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判断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看书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是否被选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 += 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看书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lag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得到指向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DC_INSTEREST4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的指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 = (CButton *)GetDlgItem(IDC_INSTEREST4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p-&gt;GetCheck())  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判断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玩游戏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是否被选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 += 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玩游戏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lag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 (!fla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 += 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不知道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 += "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学历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: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numb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String te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number = m_Combo.GetCurSel();    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得到当前被选中项的序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Combo.GetLBText(number,temp);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得到序号为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的项的內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 += te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Edit = s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UpdateData(false);             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更新文本框中的内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.3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非模态对话框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概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非模态对话框弹出后，程序可以在不关闭该对话框的情况下继续执行，在转入到应用程序其他部分的代码时可以不需要用户做出响应。非模态对话框一般用来显示信息，或者实时地进行一些设置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772400" y="6095880"/>
            <a:ext cx="107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返回第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程序的实现步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上一节程序的基础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编辑对话框资源和创建对话框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显示非模态对话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实现对话框的功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编辑对话框资源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1447920"/>
            <a:ext cx="462600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:  IDD_MODALLESS_DIA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ption: “Modalless Dialo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ass: CDialogModall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添加控件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486400" y="533520"/>
          <a:ext cx="342900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533520"/>
                    <a:ext cx="342900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4" name=""/>
          <p:cNvGrpSpPr/>
          <p:nvPr/>
        </p:nvGrpSpPr>
        <p:grpSpPr>
          <a:xfrm>
            <a:off x="228600" y="3657600"/>
            <a:ext cx="8762760" cy="2243160"/>
            <a:chOff x="228600" y="3657600"/>
            <a:chExt cx="8762760" cy="2243160"/>
          </a:xfrm>
        </p:grpSpPr>
        <p:grpSp>
          <p:nvGrpSpPr>
            <p:cNvPr id="105" name=""/>
            <p:cNvGrpSpPr/>
            <p:nvPr/>
          </p:nvGrpSpPr>
          <p:grpSpPr>
            <a:xfrm>
              <a:off x="235800" y="3662280"/>
              <a:ext cx="8746560" cy="2233440"/>
              <a:chOff x="235800" y="3662280"/>
              <a:chExt cx="8746560" cy="223344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235800" y="3662280"/>
                <a:ext cx="1585440" cy="512640"/>
                <a:chOff x="235800" y="3662280"/>
                <a:chExt cx="1585440" cy="51264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343800" y="3662280"/>
                  <a:ext cx="1369080" cy="51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ID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号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35800" y="3662280"/>
                  <a:ext cx="1585440" cy="51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1821600" y="3662280"/>
                <a:ext cx="1901880" cy="512640"/>
                <a:chOff x="1821600" y="3662280"/>
                <a:chExt cx="1901880" cy="5126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929600" y="3662280"/>
                  <a:ext cx="1685520" cy="51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控件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821600" y="3662280"/>
                  <a:ext cx="1901880" cy="51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3723840" y="3662280"/>
                <a:ext cx="5258520" cy="512640"/>
                <a:chOff x="3723840" y="3662280"/>
                <a:chExt cx="5258520" cy="51264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3831120" y="3662280"/>
                  <a:ext cx="5043240" cy="51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属性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723840" y="3662280"/>
                  <a:ext cx="5258520" cy="51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235800" y="4174920"/>
                <a:ext cx="1585440" cy="695520"/>
                <a:chOff x="235800" y="4174920"/>
                <a:chExt cx="1585440" cy="69552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343800" y="4174920"/>
                  <a:ext cx="1369080" cy="69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IDC_TRE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35800" y="4174920"/>
                  <a:ext cx="1585440" cy="69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1821600" y="4174920"/>
                <a:ext cx="1901880" cy="695520"/>
                <a:chOff x="1821600" y="4174920"/>
                <a:chExt cx="1901880" cy="69552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1929600" y="4174920"/>
                  <a:ext cx="1685520" cy="69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Tree Control 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821600" y="4174920"/>
                  <a:ext cx="1901880" cy="69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3723840" y="4174920"/>
                <a:ext cx="5258520" cy="695520"/>
                <a:chOff x="3723840" y="4174920"/>
                <a:chExt cx="5258520" cy="69552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3831120" y="4174920"/>
                  <a:ext cx="5043240" cy="69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选中复选框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Has buttons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，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Has lines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和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Lines at roo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723840" y="4174920"/>
                  <a:ext cx="5258520" cy="69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235800" y="4870440"/>
                <a:ext cx="1585440" cy="512640"/>
                <a:chOff x="235800" y="4870440"/>
                <a:chExt cx="1585440" cy="51264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343800" y="4870440"/>
                  <a:ext cx="1369080" cy="51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IDC_LIS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35800" y="4870440"/>
                  <a:ext cx="1585440" cy="51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1821600" y="4870440"/>
                <a:ext cx="1901880" cy="512640"/>
                <a:chOff x="1821600" y="4870440"/>
                <a:chExt cx="1901880" cy="5126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1929600" y="4870440"/>
                  <a:ext cx="1685520" cy="51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List Contro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821600" y="4870440"/>
                  <a:ext cx="1901880" cy="51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3723840" y="4870440"/>
                <a:ext cx="5258520" cy="512640"/>
                <a:chOff x="3723840" y="4870440"/>
                <a:chExt cx="5258520" cy="51264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3831120" y="4870440"/>
                  <a:ext cx="5043240" cy="51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Styles|View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：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Repor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723840" y="4870440"/>
                  <a:ext cx="5258520" cy="51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235800" y="5383080"/>
                <a:ext cx="1585440" cy="512640"/>
                <a:chOff x="235800" y="5383080"/>
                <a:chExt cx="1585440" cy="5126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343800" y="5383080"/>
                  <a:ext cx="1369080" cy="51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ID_OK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35800" y="5383080"/>
                  <a:ext cx="1585440" cy="51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1821600" y="5383080"/>
                <a:ext cx="1901880" cy="512640"/>
                <a:chOff x="1821600" y="5383080"/>
                <a:chExt cx="1901880" cy="51264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1929600" y="5383080"/>
                  <a:ext cx="1685520" cy="51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Butt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821600" y="5383080"/>
                  <a:ext cx="1901880" cy="51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3723840" y="5383080"/>
                <a:ext cx="5258520" cy="512640"/>
                <a:chOff x="3723840" y="5383080"/>
                <a:chExt cx="5258520" cy="5126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3831120" y="5383080"/>
                  <a:ext cx="5043240" cy="51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Caption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：确定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723840" y="5383080"/>
                  <a:ext cx="5258520" cy="51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2" name=""/>
            <p:cNvSpPr/>
            <p:nvPr/>
          </p:nvSpPr>
          <p:spPr>
            <a:xfrm>
              <a:off x="228600" y="3657600"/>
              <a:ext cx="8762760" cy="2243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  <p:sndAc>
      <p:stSnd>
        <p:snd r:embed="rId3" name="projcto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显示非模态对话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1219320"/>
            <a:ext cx="716292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在视类中添加对话框成员指针 ，并包含对话框头文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CDialogModalless* m_pModallessDlg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并包含对话框头文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#include“DialogModalless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添加消息响应函数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1295280"/>
            <a:ext cx="7527960" cy="44121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DialogView::OnViewModallessdialog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your command handler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如果指针指向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，说明对话框还没有创建，则动态创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m_pModallessDlg==NU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pModallessDlg=new CDialogModalles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pModallessDlg-&gt;Create(IDD_MODALLESS_DIALOG,thi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显示非模态对话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pModallessDlg-&gt;ShowWindow(SW_SHO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990720"/>
            <a:ext cx="7527960" cy="47826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DialogView::CDialogView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construction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pModallessDlg = NULL;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初始化指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DialogView::~CDialogView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m_pModallessDlg != NU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elete m_pModallessDlg;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释放空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28880" y="345960"/>
            <a:ext cx="32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修改视类的构造函数和析构函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.1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使用对话框与控件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程序的实现步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ppWizar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生成多文档程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Dialog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编辑口令对话框资源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添加控件关联变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添加代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72400" y="6095880"/>
            <a:ext cx="107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返回第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实现对话框的功能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990720"/>
            <a:ext cx="7086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添加控件关联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控件                变量类型         变量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C_LIST      CListCtrl           m_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C_Tree       CTeeCtrl           m_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3809880"/>
            <a:ext cx="71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添加消息响应函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2280" y="0"/>
            <a:ext cx="8839440" cy="162662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OOL CDialogModalless::OnInitDialog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Dialog::OnInitDialog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extra initializatio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往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控件中插入一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List.InsertColumn(0, 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文件名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, LVCFMT_LEFT, 150, -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V_INSERTSTRUC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reeIt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REEITEM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reeIt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reeItem.hInsertAfter = TVI_LAS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reeItem.item.mask = TVIF_TEXT|TVIF_PARA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第一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String      str = "D:\\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reeItem.hParent = TVI_ROOT;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父级为根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reeItem.item.pszText = str.GetBuffer(50);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设置字符缓冲区的大小并赋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reeItem.item.lParam = 1;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于根目录，设置为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reeItem = m_Tree.InsertItem(&amp;TreeItem);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插入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ree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控件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         number = 0;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计算文件的个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FileFind    fi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bfin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String      te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第二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reeItem.hParent = hTreeIt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reeItem.item.lParam = 10;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于子目录，设置为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find = file.FindFile("D:\\*.*");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查找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: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盘根目录下的所有文件和目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hile(bfind)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如果找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find = file.FindNextFile();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查找下一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file.IsDirectory())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判断是否为目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得到目录名并拷贝字符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cpy(TreeItem.item.pszText,file.GetFileName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reeItem = m_Tree.InsertItem(&amp;TreeItem);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插入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ree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控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如不是目录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插入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控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 = file.GetFileName();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得到文件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List.InsertItem(number,str);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把文件名插入第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number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TRUE;  // return TRUE unless you set the focus to a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EXCEPTION: OCX Property Pages should return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57200" y="0"/>
            <a:ext cx="8686800" cy="170071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DialogModalless::OnSelchangedTree(NMHDR* pNMHDR, LRESULT* pResult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NM_TREEVIEW* pNMTreeView = (NM_TREEVIEW*)pNMHD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your control notification handler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String temp,s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获取当前被选择的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ree view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REEITEM CurItem = m_Tree.GetSelectedItem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V_ITEM TreeIt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reeItem.hItem = CurIt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Tree.GetItem(&amp;TreeItem);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获取指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ree view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项的属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获得当前选中项的文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emp = m_Tree.GetItemText(m_Tree.GetSelectedItem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ong CurlParam = TreeItem.lParam;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当前条目的序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CurlParam != 1)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如果是子目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获取当前被选择项的父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reeItem.hItem = m_Tree.GetParentItem(m_Tree.GetSelectedItem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Tree.GetItem(&amp;TreeIte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urItem = TreeItem.hIt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获得当前选中项的文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 = m_Tree.GetItemText(CurIte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 += te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 += "\\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 = te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List.DeleteAllItems();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删除控件中的所有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FileFind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i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Fin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number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 += "*.*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Find = file.FindFile(str);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目录下查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hile(bFind)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如果找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Find = file.FindNextFil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!file.IsDirectory())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判断是否为目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如不是目录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插入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控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emp = file.GetFileName();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得到文件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List.InsertItem(number,temp);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把文件名插入第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number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UpdateData(false);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更新控件中的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*pResult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.4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进度条对话框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79250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程序的实现步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上一节程序的基础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编辑对话框资源和创建对话框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显示进度条对话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实现对话框的功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72400" y="6095880"/>
            <a:ext cx="107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返回第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编辑对话框资源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838080"/>
            <a:ext cx="462600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:  IDD_PROGRESS_DIA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ption: “Progress Dialo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ass: CDialogProgr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添加控件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5029200" y="152280"/>
          <a:ext cx="3543480" cy="26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52280"/>
                    <a:ext cx="3543480" cy="26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8" name=""/>
          <p:cNvGrpSpPr/>
          <p:nvPr/>
        </p:nvGrpSpPr>
        <p:grpSpPr>
          <a:xfrm>
            <a:off x="0" y="2819520"/>
            <a:ext cx="8915040" cy="3276360"/>
            <a:chOff x="0" y="2819520"/>
            <a:chExt cx="8915040" cy="3276360"/>
          </a:xfrm>
        </p:grpSpPr>
        <p:grpSp>
          <p:nvGrpSpPr>
            <p:cNvPr id="169" name=""/>
            <p:cNvGrpSpPr/>
            <p:nvPr/>
          </p:nvGrpSpPr>
          <p:grpSpPr>
            <a:xfrm>
              <a:off x="7560" y="2823120"/>
              <a:ext cx="8898480" cy="3268080"/>
              <a:chOff x="7560" y="2823120"/>
              <a:chExt cx="8898480" cy="3268080"/>
            </a:xfrm>
          </p:grpSpPr>
          <p:grpSp>
            <p:nvGrpSpPr>
              <p:cNvPr id="170" name=""/>
              <p:cNvGrpSpPr/>
              <p:nvPr/>
            </p:nvGrpSpPr>
            <p:grpSpPr>
              <a:xfrm>
                <a:off x="7560" y="2823120"/>
                <a:ext cx="2891880" cy="423360"/>
                <a:chOff x="7560" y="2823120"/>
                <a:chExt cx="2891880" cy="4233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121320" y="2823120"/>
                  <a:ext cx="2664720" cy="42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ID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号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560" y="2823120"/>
                  <a:ext cx="2891880" cy="42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2899800" y="2823120"/>
                <a:ext cx="2448000" cy="423360"/>
                <a:chOff x="2899800" y="2823120"/>
                <a:chExt cx="2448000" cy="4233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3013560" y="2823120"/>
                  <a:ext cx="2220120" cy="42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控件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899800" y="2823120"/>
                  <a:ext cx="2448000" cy="42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5348160" y="2823120"/>
                <a:ext cx="3557880" cy="423360"/>
                <a:chOff x="5348160" y="2823120"/>
                <a:chExt cx="3557880" cy="4233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5461200" y="2823120"/>
                  <a:ext cx="3331080" cy="42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属性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5348160" y="2823120"/>
                  <a:ext cx="3557880" cy="42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7560" y="3246480"/>
                <a:ext cx="2891880" cy="423720"/>
                <a:chOff x="7560" y="3246480"/>
                <a:chExt cx="2891880" cy="42372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121320" y="3246480"/>
                  <a:ext cx="2664720" cy="42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IDC_PROGRES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560" y="3246480"/>
                  <a:ext cx="2891880" cy="42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2899800" y="3246480"/>
                <a:ext cx="2448000" cy="423720"/>
                <a:chOff x="2899800" y="3246480"/>
                <a:chExt cx="2448000" cy="42372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13560" y="3246480"/>
                  <a:ext cx="2220120" cy="42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Progres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899800" y="3246480"/>
                  <a:ext cx="2448000" cy="42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5348160" y="3246480"/>
                <a:ext cx="3557880" cy="423720"/>
                <a:chOff x="5348160" y="3246480"/>
                <a:chExt cx="3557880" cy="42372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5461200" y="3246480"/>
                  <a:ext cx="3331080" cy="42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Border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：选中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348160" y="3246480"/>
                  <a:ext cx="3557880" cy="42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7560" y="3670560"/>
                <a:ext cx="2891880" cy="423360"/>
                <a:chOff x="7560" y="3670560"/>
                <a:chExt cx="2891880" cy="42336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121320" y="3670560"/>
                  <a:ext cx="2664720" cy="42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IDC_TIME_SLID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560" y="3670560"/>
                  <a:ext cx="2891880" cy="42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2899800" y="3670560"/>
                <a:ext cx="2448000" cy="423360"/>
                <a:chOff x="2899800" y="3670560"/>
                <a:chExt cx="2448000" cy="42336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3013560" y="3670560"/>
                  <a:ext cx="2220120" cy="42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lid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899800" y="3670560"/>
                  <a:ext cx="2448000" cy="42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5348160" y="3670560"/>
                <a:ext cx="3557880" cy="423360"/>
                <a:chOff x="5348160" y="3670560"/>
                <a:chExt cx="3557880" cy="423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461200" y="3670560"/>
                  <a:ext cx="3331080" cy="42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348160" y="3670560"/>
                  <a:ext cx="3557880" cy="42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7560" y="4094280"/>
                <a:ext cx="2891880" cy="423360"/>
                <a:chOff x="7560" y="4094280"/>
                <a:chExt cx="2891880" cy="4233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121320" y="4094280"/>
                  <a:ext cx="2664720" cy="42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IDC_EDI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560" y="4094280"/>
                  <a:ext cx="2891880" cy="42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2899800" y="4094280"/>
                <a:ext cx="2448000" cy="423360"/>
                <a:chOff x="2899800" y="4094280"/>
                <a:chExt cx="2448000" cy="4233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3013560" y="4094280"/>
                  <a:ext cx="2220120" cy="42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Edit Box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899800" y="4094280"/>
                  <a:ext cx="2448000" cy="42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5348160" y="4094280"/>
                <a:ext cx="3557880" cy="423360"/>
                <a:chOff x="5348160" y="4094280"/>
                <a:chExt cx="3557880" cy="42336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5461200" y="4094280"/>
                  <a:ext cx="3331080" cy="42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348160" y="4094280"/>
                  <a:ext cx="3557880" cy="42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7560" y="4518000"/>
                <a:ext cx="2891880" cy="574560"/>
                <a:chOff x="7560" y="4518000"/>
                <a:chExt cx="2891880" cy="57456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121320" y="4518000"/>
                  <a:ext cx="2664720" cy="5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IDC_PERCENT_SPI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560" y="4518000"/>
                  <a:ext cx="2891880" cy="57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2899800" y="4518000"/>
                <a:ext cx="2448000" cy="574560"/>
                <a:chOff x="2899800" y="4518000"/>
                <a:chExt cx="2448000" cy="57456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3013560" y="4518000"/>
                  <a:ext cx="2220120" cy="5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pi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899800" y="4518000"/>
                  <a:ext cx="2448000" cy="57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5348160" y="4518000"/>
                <a:ext cx="3557880" cy="574560"/>
                <a:chOff x="5348160" y="4518000"/>
                <a:chExt cx="3557880" cy="57456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5461200" y="4518000"/>
                  <a:ext cx="3331080" cy="5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选中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Auto buddy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和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Set buddy integ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348160" y="4518000"/>
                  <a:ext cx="3557880" cy="57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7560" y="5092920"/>
                <a:ext cx="2891880" cy="574200"/>
                <a:chOff x="7560" y="5092920"/>
                <a:chExt cx="2891880" cy="57420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121320" y="5092920"/>
                  <a:ext cx="2664720" cy="57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IDC_PROGRESS_BUTTO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7560" y="5092920"/>
                  <a:ext cx="2891880" cy="57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2899800" y="5092920"/>
                <a:ext cx="2448000" cy="574200"/>
                <a:chOff x="2899800" y="5092920"/>
                <a:chExt cx="2448000" cy="57420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3013560" y="5092920"/>
                  <a:ext cx="2220120" cy="57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utto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899800" y="5092920"/>
                  <a:ext cx="2448000" cy="57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5348160" y="5092920"/>
                <a:ext cx="3557880" cy="574200"/>
                <a:chOff x="5348160" y="5092920"/>
                <a:chExt cx="3557880" cy="5742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5461200" y="5092920"/>
                  <a:ext cx="3331080" cy="57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Caption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：进度条演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348160" y="5092920"/>
                  <a:ext cx="3557880" cy="57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7560" y="5667480"/>
                <a:ext cx="2891880" cy="423720"/>
                <a:chOff x="7560" y="5667480"/>
                <a:chExt cx="2891880" cy="42372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121320" y="5667480"/>
                  <a:ext cx="2664720" cy="42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IDC_QUIT_BUTTO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560" y="5667480"/>
                  <a:ext cx="2891880" cy="42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2899800" y="5667480"/>
                <a:ext cx="2448000" cy="423720"/>
                <a:chOff x="2899800" y="5667480"/>
                <a:chExt cx="2448000" cy="42372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3013560" y="5667480"/>
                  <a:ext cx="2220120" cy="42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utto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2899800" y="5667480"/>
                  <a:ext cx="2448000" cy="42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5348160" y="5667480"/>
                <a:ext cx="3557880" cy="423720"/>
                <a:chOff x="5348160" y="5667480"/>
                <a:chExt cx="3557880" cy="42372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5461200" y="5667480"/>
                  <a:ext cx="3331080" cy="42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Caption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：退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348160" y="5667480"/>
                  <a:ext cx="3557880" cy="42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3" name=""/>
            <p:cNvSpPr/>
            <p:nvPr/>
          </p:nvSpPr>
          <p:spPr>
            <a:xfrm>
              <a:off x="0" y="2819520"/>
              <a:ext cx="8915040" cy="3276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  <p:sndAc>
      <p:stSnd>
        <p:snd r:embed="rId3" name="projctor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显示进度条对话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1219320"/>
            <a:ext cx="7162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在视类中包含对话框头文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#include "DialogProgress.h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添加消息响应函数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2971800"/>
            <a:ext cx="6858000" cy="25599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DialogView::OnViewProgressdialog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your command handler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DialogProgress d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lg.DoModal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实现对话框的功能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990720"/>
            <a:ext cx="85341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添加控件关联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控件                变量类型         变量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C_PERCENT_SPIN      CSpinButtonCtrl         m_Sp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C_PROGRESS               CProgressCtrl             m_Prog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C_TIME_SLIDER          CSliderCtrl                 m_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520" y="3809880"/>
            <a:ext cx="78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添加消息响应函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52280" y="838080"/>
            <a:ext cx="8839440" cy="47826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OOL CDialogProgress::OnInitDialog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Dialog::OnInitDialog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extra initializatio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Spin.SetRange(1,50);  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给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pin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控件设置数值范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把文本框的初始值设为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GetDlgItem(IDC_EDIT)-&gt;SetWindowText("1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Time.SetRange( 0, 10 );      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设置滑动的数值范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Time.SetPos( 1 );                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设滑动控件的初始值设为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Progress.SetRange( 0, 100 );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设进度条的数值范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TRUE;  // return TRUE unless you set the focus to a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EXCEPTION: OCX Property Pages should return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28600" y="0"/>
            <a:ext cx="8915400" cy="84711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DialogProgress::OnProgressButton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your control notification handler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String te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GetDlgItem(IDC_EDIT)-&gt;GetWindowText(temp);  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得到文本框中的内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percent = atoi(temp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 (percent&lt;1) || (percent &gt; 50) )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判断文本框中的内容是否在设定的范围之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MessageBox("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输入的数据超出范围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!","Waring",MB_ICONWARNING|MB_OK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GetDlgItem(IDC_EDIT)-&gt;SetFocus();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把焦点设在文本框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;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中断程序的运行，返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nPercent, nTime, nCurPos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nPercent = m_Spin.GetPos();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得到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pin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控件的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nTime = m_Time.GetPos();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得到滑动条上当前的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Progress.SetPos( 0 );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设置进度条当前的位置为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hile( (nCurPos+=nPercent) &lt; 10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Progress.OffsetPos( nPercent );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在进度条上偏移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nPercent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位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leep( 1000 * nTime / 10 );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延迟一定的时间间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Progress.SetPos( 100 );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设置进度条当前的位置为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.5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属性页对话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概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属性页对话框将多个对话框集中起来，通过标签或按钮来激活各个页面。主要分为一般属性页对话框和向导对话框两类。在一般属性页对话框中，页面的切换通过点击不同的标签实现，在向导对话框中，页面的选择是通过点击“上一页”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ack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、“下一页”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、“完成”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和“取消”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anc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等按钮实现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772400" y="6095880"/>
            <a:ext cx="107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返回第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生成程序框架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(Dialog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项目名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 Dialo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选择多文档界面应用程序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ultiple documen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程序的实现步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79250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上一节程序的基础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编辑对话框资源和创建对话框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显示属性页对话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实现对话框的功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编辑对话框资源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1066680"/>
            <a:ext cx="462600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:  IDD_TAB_DIA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ption: “Tab Dialo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ass: CDialogTa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添加控件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5486400" y="152280"/>
          <a:ext cx="280980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52280"/>
                    <a:ext cx="2809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8" name=""/>
          <p:cNvGrpSpPr/>
          <p:nvPr/>
        </p:nvGrpSpPr>
        <p:grpSpPr>
          <a:xfrm>
            <a:off x="0" y="3048120"/>
            <a:ext cx="8991360" cy="3114720"/>
            <a:chOff x="0" y="3048120"/>
            <a:chExt cx="8991360" cy="3114720"/>
          </a:xfrm>
        </p:grpSpPr>
        <p:grpSp>
          <p:nvGrpSpPr>
            <p:cNvPr id="259" name=""/>
            <p:cNvGrpSpPr/>
            <p:nvPr/>
          </p:nvGrpSpPr>
          <p:grpSpPr>
            <a:xfrm>
              <a:off x="7560" y="3051360"/>
              <a:ext cx="8974800" cy="3107520"/>
              <a:chOff x="7560" y="3051360"/>
              <a:chExt cx="8974800" cy="310752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7560" y="3051360"/>
                <a:ext cx="2408400" cy="381600"/>
                <a:chOff x="7560" y="3051360"/>
                <a:chExt cx="2408400" cy="38160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119520" y="3051360"/>
                  <a:ext cx="2184840" cy="38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ID</a:t>
                  </a: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560" y="3051360"/>
                  <a:ext cx="2408400" cy="38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2416320" y="3051360"/>
                <a:ext cx="1971720" cy="381600"/>
                <a:chOff x="2416320" y="3051360"/>
                <a:chExt cx="1971720" cy="38160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2528280" y="3051360"/>
                  <a:ext cx="1747440" cy="38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控 件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416320" y="3051360"/>
                  <a:ext cx="1971720" cy="38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4388400" y="3051360"/>
                <a:ext cx="4593960" cy="381600"/>
                <a:chOff x="4388400" y="3051360"/>
                <a:chExt cx="4593960" cy="38160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4500360" y="3051360"/>
                  <a:ext cx="4369680" cy="38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属 性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4388400" y="3051360"/>
                  <a:ext cx="4593960" cy="38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7560" y="3432960"/>
                <a:ext cx="2408400" cy="381960"/>
                <a:chOff x="7560" y="3432960"/>
                <a:chExt cx="2408400" cy="38196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119520" y="3432960"/>
                  <a:ext cx="218484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IDC_TAB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560" y="3432960"/>
                  <a:ext cx="2408400" cy="38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2416320" y="3432960"/>
                <a:ext cx="1971720" cy="381960"/>
                <a:chOff x="2416320" y="3432960"/>
                <a:chExt cx="1971720" cy="38196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2528280" y="3432960"/>
                  <a:ext cx="174744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Tab Contro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416320" y="3432960"/>
                  <a:ext cx="1971720" cy="38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4388400" y="3432960"/>
                <a:ext cx="4593960" cy="381960"/>
                <a:chOff x="4388400" y="3432960"/>
                <a:chExt cx="4593960" cy="38196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4500360" y="3432960"/>
                  <a:ext cx="436968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Border</a:t>
                  </a: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：选中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4388400" y="3432960"/>
                  <a:ext cx="4593960" cy="38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7560" y="3815280"/>
                <a:ext cx="2408400" cy="653400"/>
                <a:chOff x="7560" y="3815280"/>
                <a:chExt cx="2408400" cy="65340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119520" y="3815280"/>
                  <a:ext cx="2184840" cy="65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IDC_STATIC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7560" y="3815280"/>
                  <a:ext cx="2408400" cy="65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2416320" y="3815280"/>
                <a:ext cx="1971720" cy="653400"/>
                <a:chOff x="2416320" y="3815280"/>
                <a:chExt cx="1971720" cy="65340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2528280" y="3815280"/>
                  <a:ext cx="1747440" cy="65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tatic Tex 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2416320" y="3815280"/>
                  <a:ext cx="1971720" cy="65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4388400" y="3815280"/>
                <a:ext cx="4593960" cy="653400"/>
                <a:chOff x="4388400" y="3815280"/>
                <a:chExt cx="4593960" cy="6534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4500360" y="3815280"/>
                  <a:ext cx="4369680" cy="65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Caption</a:t>
                  </a: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：学生守则：</a:t>
                  </a: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\n   1 ...\n    2 ...\n    3 ...\n    4 ...\n    ...... </a:t>
                  </a: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，</a:t>
                  </a: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Client edge</a:t>
                  </a: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：选中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388400" y="3815280"/>
                  <a:ext cx="4593960" cy="65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7560" y="4469040"/>
                <a:ext cx="2408400" cy="518040"/>
                <a:chOff x="7560" y="4469040"/>
                <a:chExt cx="2408400" cy="51804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119520" y="4469040"/>
                  <a:ext cx="2184840" cy="51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IDC_SCROLLBA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7560" y="4469040"/>
                  <a:ext cx="2408400" cy="518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2416320" y="4469040"/>
                <a:ext cx="1971720" cy="518040"/>
                <a:chOff x="2416320" y="4469040"/>
                <a:chExt cx="1971720" cy="51804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2528280" y="4469040"/>
                  <a:ext cx="1747440" cy="51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ertical Scroll Ba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416320" y="4469040"/>
                  <a:ext cx="1971720" cy="518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4388400" y="4469040"/>
                <a:ext cx="4593960" cy="518040"/>
                <a:chOff x="4388400" y="4469040"/>
                <a:chExt cx="4593960" cy="5180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4500360" y="4469040"/>
                  <a:ext cx="4369680" cy="51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388400" y="4469040"/>
                  <a:ext cx="4593960" cy="518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7560" y="4987080"/>
                <a:ext cx="2408400" cy="653400"/>
                <a:chOff x="7560" y="4987080"/>
                <a:chExt cx="2408400" cy="6534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119520" y="4987080"/>
                  <a:ext cx="2184840" cy="65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IDC_STATIC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7560" y="4987080"/>
                  <a:ext cx="2408400" cy="65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2416320" y="4987080"/>
                <a:ext cx="1971720" cy="653400"/>
                <a:chOff x="2416320" y="4987080"/>
                <a:chExt cx="1971720" cy="65340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2528280" y="4987080"/>
                  <a:ext cx="1747440" cy="65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tatic Tex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416320" y="4987080"/>
                  <a:ext cx="1971720" cy="65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4388400" y="4987080"/>
                <a:ext cx="4593960" cy="653400"/>
                <a:chOff x="4388400" y="4987080"/>
                <a:chExt cx="4593960" cy="65340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4500360" y="4987080"/>
                  <a:ext cx="4369680" cy="65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Caption</a:t>
                  </a: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：市民公约：</a:t>
                  </a: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\n1 ...\n    2 ...\n    3 ...\n    4 ...\n    ...... </a:t>
                  </a: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，</a:t>
                  </a: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Client edge</a:t>
                  </a: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：选中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4388400" y="4987080"/>
                  <a:ext cx="4593960" cy="65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7560" y="5640840"/>
                <a:ext cx="2408400" cy="518040"/>
                <a:chOff x="7560" y="5640840"/>
                <a:chExt cx="2408400" cy="51804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119520" y="5640840"/>
                  <a:ext cx="2184840" cy="51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ID_BUTTON_CANCE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7560" y="5640840"/>
                  <a:ext cx="2408400" cy="518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2416320" y="5640840"/>
                <a:ext cx="1971720" cy="518040"/>
                <a:chOff x="2416320" y="5640840"/>
                <a:chExt cx="1971720" cy="51804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2528280" y="5640840"/>
                  <a:ext cx="1747440" cy="51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Butto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416320" y="5640840"/>
                  <a:ext cx="1971720" cy="518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4388400" y="5640840"/>
                <a:ext cx="4593960" cy="518040"/>
                <a:chOff x="4388400" y="5640840"/>
                <a:chExt cx="4593960" cy="51804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4500360" y="5640840"/>
                  <a:ext cx="4369680" cy="51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Caption</a:t>
                  </a: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：退出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388400" y="5640840"/>
                  <a:ext cx="4593960" cy="518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4" name=""/>
            <p:cNvSpPr/>
            <p:nvPr/>
          </p:nvSpPr>
          <p:spPr>
            <a:xfrm>
              <a:off x="0" y="3048120"/>
              <a:ext cx="8991360" cy="3114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  <p:sndAc>
      <p:stSnd>
        <p:snd r:embed="rId3" name="projctor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显示属性页对话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9480" y="1219320"/>
            <a:ext cx="7162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在视类中包含对话框头文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#include "DialogTab.h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添加消息响应函数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" y="2971800"/>
            <a:ext cx="6858000" cy="2189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DialogView::OnViewTab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your command handler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DialogTab d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lg.DoModal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实现对话框的功能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4920" y="990720"/>
            <a:ext cx="85341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添加控件关联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控件                变量类型         变量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C_SCROLLBAR            CScrollBar                   m_ScrollBa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C_TAB                           CTabCtrl                       m_T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3520" y="3809880"/>
            <a:ext cx="78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添加消息响应函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0"/>
            <a:ext cx="8839080" cy="84870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OOL CDialogTab::OnInitDialog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Dialog::OnInitDialog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extra initialization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ab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控件进行初始化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C_ITEM  *m_pTCItem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pTCItem = new TC_IT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pTCItem-&gt;mask = TCIF_TEXT;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接收的值为文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pTCItem-&gt;pszText = 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学生守则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;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标签的名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Tab.InsertItem(0,m_pTCItem);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插入一个新的标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pTCItem-&gt;pszText = 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市民公约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Tab.InsertItem(1,m_pTCIte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显示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DC_STATIC1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DC_SCROLLBAR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两个控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GetDlgItem(IDC_STATIC1)-&gt;ShowWindow(SW_SHO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GetDlgItem(IDC_SCROLLBAR)-&gt;ShowWindow(SW_SHO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隐藏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DC_STATIC2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控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GetDlgItem(IDC_STATIC2)-&gt;ShowWindow(SW_HID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滚动条进行初始化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ScrollBar.SetScrollRange(1,10);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设置滚动条的范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ScrollBar.SetScrollPos(1);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设置当前滚动条的位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TRUE;  // return TRUE unless you set the focus to a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EXCEPTION: OCX Property Pages should return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28600" y="0"/>
            <a:ext cx="8915400" cy="81165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DialogTab::OnSelchangeTab(NMHDR* pNMHDR, LRESULT* pResult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your control notification handler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当前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ab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控件所选中的标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 m_Tab.GetCurSel() == 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显示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DC_STATIC1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DC_SCROLLBAR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两个控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GetDlgItem(IDC_STATIC1)-&gt;ShowWindow(SW_SHO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GetDlgItem(IDC_SCROLLBAR)-&gt;ShowWindow(SW_SHO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隐藏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DC_STATIC2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控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GetDlgItem(IDC_STATIC2)-&gt;ShowWindow(SW_HID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隐藏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DC_STATIC1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DC_SCROLLBAR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两个控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GetDlgItem(IDC_STATIC1)-&gt;ShowWindow(SW_HID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GetDlgItem(IDC_SCROLLBAR)-&gt;ShowWindow(SW_HID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显示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DC_STATIC2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控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GetDlgItem(IDC_STATIC2)-&gt;ShowWindow(SW_SHO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*pResult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04920" y="152280"/>
            <a:ext cx="8686800" cy="140436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DialogTab::OnVScroll(UINT nSBCode, UINT nPos, CScrollBar* pScrollBar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your message handler code here and/or call defa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滚动条进行重新定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witch(nSBCo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ase SB_THUMBPOSITION: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滚动的绝对位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ScrollBar-&gt;SetScrollPos(nPos);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设置滚动条的位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ase SB_LINEUP: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单击滚动条的上箭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把滚动条设置为当前位置减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的位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ScrollBar-&gt;SetScrollPos(pScrollBar-&gt;GetScrollPos() -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ase SB_LINEDOWN: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单击滚动条的下箭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把滚动条设置为当前位置加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的位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ScrollBar-&gt;SetScrollPos(pScrollBar-&gt;GetScrollPos() +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ase SB_PAGEUP: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单击滚动条当前位置的上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把滚动条设置为当前位置减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的位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ScrollBar-&gt;SetScrollPos(pScrollBar-&gt;GetScrollPos() - 5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ase SB_PAGEDOWN: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单击滚动条当前位置的下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把滚动条设置为当前位置加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的位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ScrollBar-&gt;SetScrollPos(pScrollBar-&gt;GetScrollPos() + 5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Dialog::OnVScroll(nSBCode, nPos, pScrollBa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.6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使用通用对话框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概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F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中，提供了一些通用对话框类来实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系统提供的通用对话框，包括文件对话框、颜色对话框、字体对话框、打印对话框和查找与替换对话框等，这些通用对话框类都是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CommonDialo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类派生出来的。对于每个通用对话框，都可以实现相应的特定功能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772400" y="6095880"/>
            <a:ext cx="107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返回第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程序的实现步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79250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上一节程序的基础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编辑对话框资源和创建对话框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显示对话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实现对话框的功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编辑对话框资源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" y="990720"/>
            <a:ext cx="462600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:  IDD_COMMON_DIA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ption: “Common Dialo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ass: CDialogComm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添加控件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5638680" y="609480"/>
          <a:ext cx="2905200" cy="18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609480"/>
                    <a:ext cx="2905200" cy="18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1" name=""/>
          <p:cNvGrpSpPr/>
          <p:nvPr/>
        </p:nvGrpSpPr>
        <p:grpSpPr>
          <a:xfrm>
            <a:off x="609480" y="3200400"/>
            <a:ext cx="8229240" cy="2786040"/>
            <a:chOff x="609480" y="3200400"/>
            <a:chExt cx="8229240" cy="2786040"/>
          </a:xfrm>
        </p:grpSpPr>
        <p:grpSp>
          <p:nvGrpSpPr>
            <p:cNvPr id="342" name=""/>
            <p:cNvGrpSpPr/>
            <p:nvPr/>
          </p:nvGrpSpPr>
          <p:grpSpPr>
            <a:xfrm>
              <a:off x="616680" y="3204720"/>
              <a:ext cx="8213400" cy="2776680"/>
              <a:chOff x="616680" y="3204720"/>
              <a:chExt cx="8213400" cy="277668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616680" y="3204720"/>
                <a:ext cx="2552400" cy="486000"/>
                <a:chOff x="616680" y="3204720"/>
                <a:chExt cx="2552400" cy="48600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725760" y="3204720"/>
                  <a:ext cx="2333880" cy="48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ID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号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16680" y="3204720"/>
                  <a:ext cx="2552400" cy="48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3169440" y="3204720"/>
                <a:ext cx="2460600" cy="486000"/>
                <a:chOff x="3169440" y="3204720"/>
                <a:chExt cx="2460600" cy="48600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3277800" y="3204720"/>
                  <a:ext cx="2243160" cy="48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控 件             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3169440" y="3204720"/>
                  <a:ext cx="2460600" cy="48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5630760" y="3204720"/>
                <a:ext cx="3199320" cy="486000"/>
                <a:chOff x="5630760" y="3204720"/>
                <a:chExt cx="3199320" cy="48600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5739840" y="3204720"/>
                  <a:ext cx="2980800" cy="48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属 性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5630760" y="3204720"/>
                  <a:ext cx="3199320" cy="48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616680" y="3690720"/>
                <a:ext cx="2552400" cy="659160"/>
                <a:chOff x="616680" y="3690720"/>
                <a:chExt cx="2552400" cy="65916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725760" y="3690720"/>
                  <a:ext cx="2333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IDC_STATIC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16680" y="3690720"/>
                  <a:ext cx="255240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3169440" y="3690720"/>
                <a:ext cx="2460600" cy="659160"/>
                <a:chOff x="3169440" y="3690720"/>
                <a:chExt cx="2460600" cy="65916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3277800" y="3690720"/>
                  <a:ext cx="224316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tatic Tex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3169440" y="3690720"/>
                  <a:ext cx="246060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5630760" y="3690720"/>
                <a:ext cx="3199320" cy="659160"/>
                <a:chOff x="5630760" y="3690720"/>
                <a:chExt cx="3199320" cy="65916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5739840" y="3690720"/>
                  <a:ext cx="298080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Caption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：请选择一个文本文件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5630760" y="3690720"/>
                  <a:ext cx="31993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616680" y="4349880"/>
                <a:ext cx="2552400" cy="486000"/>
                <a:chOff x="616680" y="4349880"/>
                <a:chExt cx="2552400" cy="48600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725760" y="4349880"/>
                  <a:ext cx="2333880" cy="48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IDC_EDI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16680" y="4349880"/>
                  <a:ext cx="2552400" cy="48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3169440" y="4349880"/>
                <a:ext cx="2460600" cy="486000"/>
                <a:chOff x="3169440" y="4349880"/>
                <a:chExt cx="2460600" cy="48600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3277800" y="4349880"/>
                  <a:ext cx="2243160" cy="48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Edit Box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3169440" y="4349880"/>
                  <a:ext cx="2460600" cy="48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5630760" y="4349880"/>
                <a:ext cx="3199320" cy="486000"/>
                <a:chOff x="5630760" y="4349880"/>
                <a:chExt cx="3199320" cy="48600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5739840" y="4349880"/>
                  <a:ext cx="2980800" cy="48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Read-only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：选中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5630760" y="4349880"/>
                  <a:ext cx="3199320" cy="48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616680" y="4836240"/>
                <a:ext cx="2552400" cy="659160"/>
                <a:chOff x="616680" y="4836240"/>
                <a:chExt cx="2552400" cy="65916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725760" y="4836240"/>
                  <a:ext cx="2333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IDC_OPEN_BUTTO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616680" y="4836240"/>
                  <a:ext cx="255240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3169440" y="4836240"/>
                <a:ext cx="2460600" cy="659160"/>
                <a:chOff x="3169440" y="4836240"/>
                <a:chExt cx="2460600" cy="65916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3277800" y="4836240"/>
                  <a:ext cx="224316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utto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3169440" y="4836240"/>
                  <a:ext cx="246060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5630760" y="4836240"/>
                <a:ext cx="3199320" cy="659160"/>
                <a:chOff x="5630760" y="4836240"/>
                <a:chExt cx="3199320" cy="65916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5739840" y="4836240"/>
                  <a:ext cx="298080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Caption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：打开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5630760" y="4836240"/>
                  <a:ext cx="31993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616680" y="5495400"/>
                <a:ext cx="2552400" cy="486000"/>
                <a:chOff x="616680" y="5495400"/>
                <a:chExt cx="2552400" cy="48600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725760" y="5495400"/>
                  <a:ext cx="2333880" cy="48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ID_QUI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16680" y="5495400"/>
                  <a:ext cx="2552400" cy="48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3169440" y="5495400"/>
                <a:ext cx="2460600" cy="486000"/>
                <a:chOff x="3169440" y="5495400"/>
                <a:chExt cx="2460600" cy="48600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3277800" y="5495400"/>
                  <a:ext cx="2243160" cy="48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utton 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3169440" y="5495400"/>
                  <a:ext cx="2460600" cy="48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5630760" y="5495400"/>
                <a:ext cx="3199320" cy="486000"/>
                <a:chOff x="5630760" y="5495400"/>
                <a:chExt cx="3199320" cy="48600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5739840" y="5495400"/>
                  <a:ext cx="2980800" cy="48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Caption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</a:rPr>
                    <a:t>：退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630760" y="5495400"/>
                  <a:ext cx="3199320" cy="48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8" name=""/>
            <p:cNvSpPr/>
            <p:nvPr/>
          </p:nvSpPr>
          <p:spPr>
            <a:xfrm>
              <a:off x="609480" y="3200400"/>
              <a:ext cx="8229240" cy="27860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  <p:sndAc>
      <p:stSnd>
        <p:snd r:embed="rId3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编辑口令对话框资源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350496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添加控件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IDC_STATI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Static Text    Caption: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请输入口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IDC_STATI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Static Text    Caption: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口令为一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0 - 999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之间的整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lient edg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atic edg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odal fra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选中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IDC_PASSWORD_EDI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Edit Box     Password :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选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IDO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Button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ption: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确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IDCANCE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Button        Caption: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取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257800" y="1143000"/>
          <a:ext cx="346716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143000"/>
                    <a:ext cx="346716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403200" y="1752480"/>
            <a:ext cx="462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:  IDD_PASSWORD_DIA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ption: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令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ass: CPasswordDia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显示对话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33520" y="1219320"/>
            <a:ext cx="71625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在视类中包含对话框头文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#include "DialogCommon.h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添加消息响应函数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57200" y="2971800"/>
            <a:ext cx="6858000" cy="2189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DialogView::OnViewCommondialog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your command handler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DialogCommon d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lg.DoModal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实现对话框的功能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4920" y="838080"/>
            <a:ext cx="8518320" cy="51530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DialogCommon::OnOpenButton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your control notification handler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声明一个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FileDialog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象，并设置他的格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FileDialog cdlg(true,  NULL,  NULL,  OFN_HIDEREAD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| OFN_OVERWRITEPROMPT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text file(*.txt)|*.txt|All file(*.*)|*.*||",  thi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cdlg.DoModal() == IDOK)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单击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按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从文件对话框中取得文件名并显示在文本框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GetDlgItem(IDC_EDIT)-&gt;SetWindowText(cdlg.GetPathName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UpdateData(false);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更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152280" y="1295280"/>
            <a:ext cx="8839440" cy="18190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DialogCommon::OnQuit(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your control notification handler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OnOK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765920" y="6324480"/>
            <a:ext cx="107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返回第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添加控件关联变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600200"/>
            <a:ext cx="6378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C_PASSWORD_EDIT   int    m_Passwo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inimum  Value :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ximum  Value : 9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3809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显示对话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3640" y="4973760"/>
            <a:ext cx="717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文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alog.cp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头部，加入下面的包含语句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#include “PasswordDialog.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显示对话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685800"/>
            <a:ext cx="8763120" cy="58939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OOL CDialogApp::InitInstanc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PasswordDialog cDlg;   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声明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PasswordDialog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类的一个对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 cDlg.DoModal() == IDOK )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用户按了确定按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 cDlg.m_Password != 1925 )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口令为整数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19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如果口令不对，则显示出错信息，然后程序结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fxMessageBox(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口令错误，确定后将退出程序。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lse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如果按下取消按钮，程序也结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.2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模态对话框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概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模态对话框弹出后，独占了系统资源，只有在关闭该对话框后才可能继续执行程序的其他代码，不能够在关闭对话框之前执行应用程序其他部分的代码。模态对话框一般要求用户做出某种选择，如前面例程中的口令对话框将一直出现并等待用户输入口令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772400" y="6095880"/>
            <a:ext cx="107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返回第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程序的实现步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上一节程序的基础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添加菜单资源和菜单响应函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编辑对话框资源和创建对话框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添加消息响应函数和代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步骤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添加菜单资源和菜单响应函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“查看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”菜单中添加以下菜单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eparat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_VIEW_MODALDIALOG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模态对话框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amp;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_VIEW_MODALLESSDIALOG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非模态对话框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amp;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_VIEW_PROGRESSDIALO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进度条对话框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amp;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_VIEW_PROPERTIES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属性页对话框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amp;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D_VIEW_COMMONDIALO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通用对话框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amp;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5T08:31:54Z</dcterms:created>
  <dc:creator>YangGuoxing</dc:creator>
  <dc:description/>
  <dc:language>en-US</dc:language>
  <cp:lastModifiedBy>YangGuoxing</cp:lastModifiedBy>
  <dcterms:modified xsi:type="dcterms:W3CDTF">2001-08-27T01:26:09Z</dcterms:modified>
  <cp:revision>158</cp:revision>
  <dc:subject/>
  <dc:title>第四章   菜单、快捷键和控制条 </dc:title>
</cp:coreProperties>
</file>